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721-15D7-4B7D-A662-EBBB6E9D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C8C-2FCA-4141-AD40-2A45E951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B43-E4CC-4581-B0D6-94542EA6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051-2752-4E08-A35F-F7363428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D03-F475-4273-B922-93EBA868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CBB8-E2EF-4A86-BF54-4ACFB90E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EF4-6D40-4E16-A929-BD07A4D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D393-1130-49AB-BD4A-B6CB499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DAA-BBCA-4981-A159-81B9128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D65-8F29-4A88-8D93-AD702019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95FF-4883-4F90-978D-AA0574F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9DD-AE6E-49D7-B104-9F1A2302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478-AD6B-4E79-B565-82950CA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977-0854-4BFE-87CB-99C17DE7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9F72-EBF8-45FD-BD61-C2F2275D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0C6-A54D-475C-845B-3D13E298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DE1-6071-4D49-832C-1C6AE5AC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4F3-CD59-4C33-8553-16A6167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F96-4570-4557-B53B-93B41CE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4F4-2339-44A6-80B8-323BB321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44A-3EB5-474F-B581-E7D851C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542-F3CD-41FC-AE7A-98AA99B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CA5-BAED-44E6-80D5-28ACBBB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926-1237-40EA-8BF6-E3656E7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C69-E3B1-452F-8570-96B9BBE69E9C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0051-AC6B-4A1A-BEB9-7799DCE14960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5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4723920"/>
            <a:ext cx="33530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6:58:34Z</dcterms:created>
  <dc:creator>jeanne butcher</dc:creator>
  <dc:description/>
  <cp:keywords/>
  <dc:language>en-US</dc:language>
  <cp:lastModifiedBy>jeanne butcher</cp:lastModifiedBy>
  <dcterms:modified xsi:type="dcterms:W3CDTF">2007-07-15T20:43:3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01033</vt:lpwstr>
  </property>
</Properties>
</file>